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D68-BF0F-4068-8E43-B13CF8B8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C98-9B18-492D-BA58-32B263C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303-62AC-493A-94EB-14DADE02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A42-5873-4ABD-8312-30A52426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3D6-B883-45E8-961C-14A21CD5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C14-DB96-43B4-A438-9F426DEF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287-657C-48AE-B8E6-05743B8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C6A-051C-4144-B631-67FE644F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ACF-A0E3-449C-9CA5-6F69C801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864-65E2-49E3-B979-77EBFF0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5F9-4382-445A-B87B-DB78889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C65-E971-478E-B773-3831813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AE0-FFEA-48A0-B8DF-93E373AB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que"/>
              </a:rPr>
              <a:t>This Place Ma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: David Tay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tique"/>
              </a:rPr>
              <a:t>The Nashville Court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shville Court House Is Historical place in Nashville history. It is located on  234 W Washington St. Nashville,NC 27856. This place matters because it wasn’t the first court house built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324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que"/>
              </a:rPr>
              <a:t>The Imperia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erial Center matters because it used to be The Imperial tobacco Company and now is a science and art museum in rocky mount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s also occupying the space of the old Braswell Memori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891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tique"/>
              </a:rPr>
              <a:t>The Nashville Art 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shville Art center matters because it used to be a Baptist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79936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h Arts is housed in The Nash Arts Center, a former Baptist Church built in 1914, that was slated to be demolished and m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a parking lot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18:40Z</dcterms:created>
  <dc:creator>NRMS</dc:creator>
  <dc:description/>
  <dc:language>en-US</dc:language>
  <cp:lastModifiedBy>NRMS</cp:lastModifiedBy>
  <dcterms:modified xsi:type="dcterms:W3CDTF">2011-04-14T16:23:27Z</dcterms:modified>
  <cp:revision>5</cp:revision>
  <dc:subject/>
  <dc:title>This Place Matters</dc:title>
</cp:coreProperties>
</file>